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7C3-6271-435D-B01E-66239316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7FD-A00F-48B3-BB34-7AF112F8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01A-60CD-4E2F-BCFB-3156E8D8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861-F2AD-479A-89EC-D4CADF3F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EB5-3777-430E-BA1D-DA7BF64C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164-E0A4-41CF-9B60-13E0BD3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606-8952-428F-8CC3-8BB4506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962-FCED-4EB3-9B37-85CC72BD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B7E-49FF-44B5-AEE7-C768A634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932-D869-435E-A182-CFCB21D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11E-32E2-4F16-B08A-AD24EB1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E41-42BA-446C-AA5B-3BD1177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EDF8-022B-4EAF-8E71-33F7856A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6858000" cy="91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92240" y="-374760"/>
            <a:ext cx="7226280" cy="9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92240" y="-374760"/>
            <a:ext cx="7226280" cy="9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-12567" t="-12577" r="-17301" b="-17304"/>
          <a:stretch/>
        </p:blipFill>
        <p:spPr>
          <a:xfrm>
            <a:off x="1184400" y="1523880"/>
            <a:ext cx="46576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2640" y="830160"/>
            <a:ext cx="5830920" cy="74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81040" y="1827360"/>
            <a:ext cx="38959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792000"/>
            <a:ext cx="548784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2240" y="2409840"/>
            <a:ext cx="5211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50880" y="2232000"/>
            <a:ext cx="3756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81000" y="2286000"/>
            <a:ext cx="702144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86040" y="73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94040" y="2670120"/>
            <a:ext cx="28684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91960" y="-343080"/>
            <a:ext cx="7427880" cy="98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6200" y="3365640"/>
            <a:ext cx="37656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2770200"/>
            <a:ext cx="28684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62080" y="2689200"/>
            <a:ext cx="2733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4040" y="2746440"/>
            <a:ext cx="286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94040" y="2625840"/>
            <a:ext cx="28684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1960" y="-343080"/>
            <a:ext cx="7427880" cy="98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77840" y="-260280"/>
            <a:ext cx="7199280" cy="9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74760" y="-374760"/>
            <a:ext cx="7591680" cy="9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74680" y="-355680"/>
            <a:ext cx="7391520" cy="98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6:41:32Z</dcterms:created>
  <dc:creator>Faith Rogow</dc:creator>
  <dc:description/>
  <dc:language>en-US</dc:language>
  <cp:lastModifiedBy>IIT</cp:lastModifiedBy>
  <dcterms:modified xsi:type="dcterms:W3CDTF">2010-06-25T01:44:55Z</dcterms:modified>
  <cp:revision>4</cp:revision>
  <dc:subject/>
  <dc:title>No Slide Title</dc:title>
</cp:coreProperties>
</file>